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A41E4-B8FF-4439-A5CC-B28586D41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E6CE8-DF28-4099-96F3-F230D7E95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03EF6-1965-41CE-8EC9-A8B5D4EA0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46DAE-DDD0-40B1-A064-390CCCDFB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E8598-1247-46FC-A02F-3F2ED19CC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DDCB3-1D68-4618-8FC9-B9BDAB133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2F170-E696-4158-B943-934C5953C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5F934-E8F3-4D06-AC27-CA9447D6E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93006-C40F-4C81-BBCB-A59AE7FBB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1D13D-42DC-47C0-97AC-A0FA9B544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047E5-8917-4BCD-AF41-2AFF3B285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A6612-4679-4F4E-9830-225C70AD0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691D284-FB0D-42E9-B755-FCBEFCD7B4F2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292480" y="0"/>
            <a:ext cx="4603680" cy="686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762120"/>
            <a:ext cx="9144000" cy="535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04920" y="2444760"/>
            <a:ext cx="4800600" cy="28130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5505480" y="990720"/>
            <a:ext cx="3219480" cy="4800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80880" y="114300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your opinion, which picture is more accurat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9T17:50:27Z</dcterms:created>
  <dc:creator>Emily Dolci</dc:creator>
  <dc:description/>
  <dc:language>en-US</dc:language>
  <cp:lastModifiedBy>Emily Dolci</cp:lastModifiedBy>
  <dcterms:modified xsi:type="dcterms:W3CDTF">2008-11-19T17:50:45Z</dcterms:modified>
  <cp:revision>1</cp:revision>
  <dc:subject/>
  <dc:title>Slide 1</dc:title>
</cp:coreProperties>
</file>